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1B02-9333-485B-8FE8-120BFB2D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A41-B9F2-4E86-A567-6A88D058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D8D-C56D-464A-92A0-7E30A451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579-E66A-4DFC-B982-B6E9015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EAD-8403-412A-94A5-2C5E0B0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80A-4B36-4C84-AC3B-B4EE9F42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E27-3F2F-461E-8712-A0A98D65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EA2-71E7-4803-93E2-60FB4A03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CAF-5DB7-486B-8C07-B6E28583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727-BF96-4360-B1BA-69B3D66A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AA7-43C3-49FC-B88E-1D607F1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0C7-1007-4119-97A4-4B89213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EDB-8D92-4F70-B333-A8C9C7AF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ravelblog.org/Photos/286136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travelblog.org/Photos/286136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travelblog.org/Photos/286136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, Incas, and 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amantha Im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major pre-Columbian civilizations that existed in Central and South America are the Maya, Aztec, and Incas. 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used other tribes as slaves and hu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rifices to the many gods they believed 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their civilization was Tenochtitlan. It was built in the middle of a lake surrounded by mountains which made it harder to find and conqu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 civilization was brought down by a disease called Small P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819520" cy="231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1880" y="61714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 civilization was on a part of the Mexican coast called the Yucatan Penins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Maya civilization was not just one major city it was much harder for conquistadors to overthrow the May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had slaves that sometimes could gain their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3352680"/>
            <a:ext cx="2457720" cy="327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5920" y="624780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about-guatemal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 civilization was on the Andes mountains in Peru . Also it was in sout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the Inca civilization was Cuz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polytheistic witch means they believe in many g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3657600" cy="288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6760" y="60951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horterword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raveled with 500 men and 16 horses to conquer the Aztec people in their capital of Tenochtitlan in 151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thought that he was a pale skinned god called Quetzalcoatl and that their horses were be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638680" y="3352680"/>
            <a:ext cx="22813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61714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ckleheadhumo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raveled with 180 men and 27 horses into Peru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 the Inca civi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kidnapped Atahualpa and demanded that a room be filled with gold and silver as a ransom to return Atahualp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conquistador witch is someone who conquers or takes over by fo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hualpa was the Inca’s l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66880" y="62478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uman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ff99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have Central and South America changed forever by the conquistad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Aztec, Inca, and Maya culture and traditions have disappeared forever because Spanish conquistadors and explorers killed a lot of people that knew and followed the traditions of Aztecs, Mayas, and Incas. Artif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Aztec Art (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Aztec Art (2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ztec Art (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4876920" y="3200400"/>
            <a:ext cx="3600360" cy="342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669760" y="609516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cityreview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4:44Z</dcterms:created>
  <dc:creator>jklib</dc:creator>
  <dc:description/>
  <dc:language>en-US</dc:language>
  <cp:lastModifiedBy>jklib</cp:lastModifiedBy>
  <dcterms:modified xsi:type="dcterms:W3CDTF">2011-11-28T14:45:52Z</dcterms:modified>
  <cp:revision>10</cp:revision>
  <dc:subject/>
  <dc:title>Conquistadors</dc:title>
</cp:coreProperties>
</file>